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3B3-108E-48EF-B2DA-76161DF1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8A4-77BC-4F5F-9D9D-44318DB9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7D5-E8FE-4A48-84A8-3B3D2821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0E1-A571-4479-9C79-5E55559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60-AB1A-43DD-BCF1-86233B4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2CB-4196-46B2-B1F2-DB1549D0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BEF-F3AC-4997-BCB0-617BB73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E7D-77F1-490E-9ABD-1830BC20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DF3-2BE2-4FBF-A28B-284EE125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4A7-60D8-4CE4-9BC4-DD21531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40A-1543-4A5F-AB64-0062F77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0B5-C5C9-417D-BB72-AD89C84A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23A-4A21-40B1-AFFC-495E8195F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into Slope Inter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taking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24280" y="1676520"/>
          <a:ext cx="2590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2590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38080" y="19051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= slop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forget to put the y’s on top and the x’s on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for writing an equation in slope int. from two 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quation in point slope form using the first of the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slope through the pare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 by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oints (-1,1) and (3,5) write an equation in slope 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1=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4,-5) and (8,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-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5 = -3/4(x –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3/4x –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oints (-1,-4) and (2,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point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+ 4 = 4(x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teps to change into slope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22:21Z</dcterms:created>
  <dc:creator>Preferred Customer</dc:creator>
  <dc:description/>
  <dc:language>en-US</dc:language>
  <cp:lastModifiedBy>Preferred Customer</cp:lastModifiedBy>
  <dcterms:modified xsi:type="dcterms:W3CDTF">2007-12-12T19:49:41Z</dcterms:modified>
  <cp:revision>3</cp:revision>
  <dc:subject/>
  <dc:title>Change into Slope Intercept</dc:title>
</cp:coreProperties>
</file>